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B831-7527-4B83-8BAA-9C35DA3E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BEA7-86C3-43FA-9D04-B257C98F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09FD-609D-400A-9E82-6BFEF59E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A996-D361-40BC-86BE-C9668EB1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780-7CE2-43BF-97A0-918E27F8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8B3-F7FC-4B8A-BEDD-FA18F0D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64D0-3DA1-431B-8D1C-708CFD05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2122-1CD7-446B-BA97-6595E70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6C73-6380-4BF9-BAA7-A64B03F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33B6-EE64-4D25-8E83-FA22284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F474-FDA7-429C-9D09-B832037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A00C-D099-482F-B401-2CCCD8B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C69B-2C8C-4364-83A3-F7E12AE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65D0-9354-423E-95CA-75AC9851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72BA-4F29-4029-B2B5-632E96C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A23-08DA-4925-AB07-3A58B0F6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D70-1233-4437-B564-DE650EE1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28D0-BCE0-4E5C-BEE6-ECBFD83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9393-2930-4FC0-B25E-1D805F6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02AA-862A-4E05-81DC-821C87FA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817C-6C02-4EE9-A265-CACE38C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C68A-988C-4606-8C83-07701C1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9408-AB85-4629-A1C0-F09520F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1C88-FE1D-4785-B7EA-6764787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B3E9-C1DE-4BC2-B48C-FAA5A40CB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3886-7637-40DB-88CC-A25B8143D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g.purdue.edu/extension/eden/Winter%20Gallery/Scru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acky Winter Storm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: Eboni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anuari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os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Snowflake"/>
          <p:cNvPicPr/>
          <p:nvPr/>
        </p:nvPicPr>
        <p:blipFill>
          <a:blip r:embed="rId1"/>
          <a:stretch/>
        </p:blipFill>
        <p:spPr>
          <a:xfrm>
            <a:off x="5867280" y="3809880"/>
            <a:ext cx="22100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Are Winter Storm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inter storm is a bunch of snow that can take a power pole 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Ice Storm"/>
          <p:cNvPicPr/>
          <p:nvPr/>
        </p:nvPicPr>
        <p:blipFill>
          <a:blip r:embed="rId1"/>
          <a:stretch/>
        </p:blipFill>
        <p:spPr>
          <a:xfrm>
            <a:off x="2514600" y="32004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Are Winter Storms Formed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Storms derive there energy from the clash was recored of two different masses of New York and New Jers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forest scru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42900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Strong Are Winter Storm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zzards are the strongest winter storms. A blizzard is long lasting snow storm with very strong winds and intense snow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at Effects  Do Winter Storms Have On Us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wfall of 40 to 50 inches was racored over New Jersey New York Massachusets and connecticut as sustained winds created drifts as much as 50 feet t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en Do Winter Storms Occur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winter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Windchill"/>
          <p:cNvPicPr/>
          <p:nvPr/>
        </p:nvPicPr>
        <p:blipFill>
          <a:blip r:embed="rId1"/>
          <a:stretch/>
        </p:blipFill>
        <p:spPr>
          <a:xfrm>
            <a:off x="2743200" y="27432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4:46Z</dcterms:created>
  <dc:creator>Neo</dc:creator>
  <dc:description/>
  <dc:language>en-US</dc:language>
  <cp:lastModifiedBy>Neo</cp:lastModifiedBy>
  <dcterms:modified xsi:type="dcterms:W3CDTF">2010-02-03T17:32:18Z</dcterms:modified>
  <cp:revision>4</cp:revision>
  <dc:subject/>
  <dc:title>Wacky Winter Storms</dc:title>
</cp:coreProperties>
</file>